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961A-25F2-431D-8523-2EC294454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ink about what you need when you have caused harm to someone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questions can be used whenever harm has happened or people have fallen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hort version can be sued in playgrounds/corridors and classrooms – the longer version you have in your lap may be useful if the situation is more protra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ing harmful behaviour whilst staying true to the values we have been talking about and ensuring that the relationship does not get damaged is a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traditional way to consider wrong doing for exam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values and skills that need to be underpinning restorative practice and so first and foremost they need to be the values and skills of a restorative practitio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BF5-8DA4-4232-9B52-A5890E5F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EF5-5D6E-4858-9504-BE64831C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E7E-7B72-4BBC-AC27-F615AC24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035-ACB4-48B8-B653-F9486A7C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413-7D0D-444E-B31D-7757D0EF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D8B-84CE-4E1B-845D-C1F6AA33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B3A-D6B6-458F-A04E-626B234B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E13-23C2-41DC-8390-37A4F3F5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D86-86DC-4D25-9579-965AD2C5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763-A03A-4D2F-994B-C6445A0A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B7A-8FCC-42DA-BAE2-50226137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98A-3490-4D53-B05C-8FFA936D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F6F1-2BA1-4BA6-AD42-3EE1A727A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Belinda@transformingconflict.org" TargetMode="External"/><Relationship Id="rId2" Type="http://schemas.openxmlformats.org/officeDocument/2006/relationships/hyperlink" Target="http://www.transformingconflict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Restorative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765000"/>
            <a:ext cx="1684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you manage to refrain fro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your body or your tone to show disapprov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ing your own opinion or judgement about what has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si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you know what has happened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 people what they should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ing unasked for ad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sting people apologise and make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aditional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tarted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sponse is appropriate to deter and pun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orativ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has been affected or ha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ose involved be supported in finding ways to repair the harm ca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3640" y="0"/>
            <a:ext cx="828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I need when I’ve been harm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mpathetic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nd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person to understand what has upse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res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allowed to have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and positive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surance it won’t happe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raw a line underneath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99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I need when I have har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els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polog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one to talk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put things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it up t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ce to explain to other person and mysel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eel better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bout my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for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assure them/myself it won’t happe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back on friendl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I need when I’ve    been ha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mpathetic 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person to understand what has upset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allowed to have e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and positive rei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surance it won’t happe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aw a line underneath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I need when I’ve harmed someone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polog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to tal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o put things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it up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nce to explain to other person and my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eel better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bout my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for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assure them/myself it won’t happen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t back on friendl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ve Magic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re you thin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you fee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lse has been affected by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eed, and what needs to happen now, so that the harm can be repaired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97680" y="5872320"/>
            <a:ext cx="31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orative Min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59480" y="5877000"/>
            <a:ext cx="272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orative 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997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71628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371628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7120" y="587232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the approach com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and U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Zeal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aga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068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3068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3789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789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51280" y="5799240"/>
            <a:ext cx="448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l group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mediation/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03640" y="1989000"/>
            <a:ext cx="3240000" cy="2592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3860640"/>
            <a:ext cx="50292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3860640"/>
            <a:ext cx="50292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2852640"/>
            <a:ext cx="50328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5872320"/>
            <a:ext cx="42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restorative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03640" y="1989000"/>
            <a:ext cx="3240000" cy="2952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3284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335772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5280" y="4005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4005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84720" y="299736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4292640"/>
            <a:ext cx="50328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5824440"/>
            <a:ext cx="5537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Circle time; classroom conferen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ff problem-solving circles; parent circle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orativ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ress conflicts and harmful situations in a way that, at the very least, does not harm relationships, and at best builds and repair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mpower those involved in conflict or harmful situations to take ownership of these and find ways forward for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pportunities do you have for making your work with young people more restor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pportunities do you have for making your working environment more restora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58280" y="4456080"/>
            <a:ext cx="1371600" cy="84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initiati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6440" y="2170080"/>
            <a:ext cx="112104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ral Order Pa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6440" y="1557360"/>
            <a:ext cx="1225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 Planning Mee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34196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able Behavi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25636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 Social Behaviour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656880" y="30844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fton Centre for Restorative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15280" y="1827360"/>
            <a:ext cx="9144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479916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ner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3880" y="2781360"/>
            <a:ext cx="15894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J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680" y="10270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mily Group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33640" y="1295280"/>
            <a:ext cx="11430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I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86680" y="9907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6736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er Me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10360" y="320040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Improvement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05640" y="32767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ucation Action Zon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18273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enting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01880" y="5713560"/>
            <a:ext cx="2232000" cy="11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ing Organ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apted from  a model developed by Sefton Centre for Restorative Pract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47991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ighbour Disp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86280" y="54849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Con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71356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ldren’s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86280" y="2739960"/>
            <a:ext cx="3085920" cy="160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62640" y="1600200"/>
            <a:ext cx="1143000" cy="80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62040" y="1600200"/>
            <a:ext cx="1143000" cy="80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5560"/>
            <a:ext cx="685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6080" y="4570560"/>
            <a:ext cx="16002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14680" y="479916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4570560"/>
            <a:ext cx="16002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2629080" y="2282400"/>
            <a:ext cx="9144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16440" y="2282400"/>
            <a:ext cx="80028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629080" y="4113360"/>
            <a:ext cx="9144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16440" y="4113360"/>
            <a:ext cx="8002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86280" y="5027760"/>
            <a:ext cx="34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57680" y="5370480"/>
            <a:ext cx="34272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548496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255320" y="5256360"/>
            <a:ext cx="343080" cy="114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255320" y="4684680"/>
            <a:ext cx="34308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43880" y="548496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429680" y="4684680"/>
            <a:ext cx="34272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42360" y="5141880"/>
            <a:ext cx="22860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257440" y="2055960"/>
            <a:ext cx="1143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742840" y="2055960"/>
            <a:ext cx="1143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972480" y="136800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905440" y="1371600"/>
            <a:ext cx="611280" cy="341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333440" y="2362320"/>
            <a:ext cx="419040" cy="304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712520" y="1368000"/>
            <a:ext cx="22860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255320" y="1825560"/>
            <a:ext cx="34308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143000" y="2170080"/>
            <a:ext cx="457200" cy="114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96160" y="2438280"/>
            <a:ext cx="0" cy="801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10360" y="47242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ner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42760" y="304812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orative Ba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5280" y="1828800"/>
            <a:ext cx="9144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43280" y="990720"/>
            <a:ext cx="13716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im Inclus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247840" y="1447560"/>
            <a:ext cx="7632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629080" y="1523520"/>
            <a:ext cx="60948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277040" y="1294920"/>
            <a:ext cx="533520" cy="381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429680" y="1676160"/>
            <a:ext cx="609480" cy="152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7068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734240" y="914400"/>
            <a:ext cx="1116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S3 Behaviour and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14680" y="2438280"/>
            <a:ext cx="304560" cy="6098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3280" y="27432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04840" y="29718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2362320"/>
            <a:ext cx="11412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95560" y="2743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stodial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29680" y="2209680"/>
            <a:ext cx="761760" cy="99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19840" y="3886200"/>
            <a:ext cx="0" cy="725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277040" y="3886200"/>
            <a:ext cx="914400" cy="801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12952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705040" y="1447920"/>
            <a:ext cx="1524240" cy="457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067360" y="1447920"/>
            <a:ext cx="1371600" cy="380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57880" y="48006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ed afte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676480" y="5029200"/>
            <a:ext cx="304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ing 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tional Centre for Resto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ustice in Youth Setting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timer Hil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G7 3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l/fax 0118 93315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linda@transformingconflic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ransformingconflic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521320" y="1600200"/>
            <a:ext cx="2292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storative Just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itmen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dialogue between all those affected by the wrongdoing o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ing those responsible for the harm to become accountable for their actions and responsible for putting right the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ing that all those involved or affected are given the opportunity to share their story, their feelings and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ing everyone affected in finding mutually acceptable ways 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ing the harm caused by any behaviour that has a negative impact on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iring, or at times building, relationships between those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restorative approach is all about relationships – making, maintaining and, when necessary, repairing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59" name="_s14341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4342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4343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979640" y="2565360"/>
            <a:ext cx="511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51577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51280" y="1268280"/>
            <a:ext cx="16002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values that underpin a commitment to building, maintaining  &amp; repair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67" name="_s3077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078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079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95640" y="4724280"/>
            <a:ext cx="4968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rebuchet MS"/>
              </a:rPr>
              <a:t>Mutual respect, empowerment, collaboration, valuing others, integrity, honesty, openness, trust,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skills that underpin a commitment to building, maintaining  &amp; repairing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73" name="_s6149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6150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6151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411280" y="2565360"/>
            <a:ext cx="4681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Emotional articulac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empath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open-mindednes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3300"/>
                </a:solidFill>
                <a:latin typeface="Trebuchet MS"/>
              </a:rPr>
              <a:t>active non-judgemental listening, conflict management sk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4724280"/>
            <a:ext cx="496872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utual respect, empowerment, collaboration, valuing others, integrity, honesty, openness, trust, toler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26748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52040" y="464760"/>
            <a:ext cx="7846200" cy="6003720"/>
            <a:chOff x="752040" y="464760"/>
            <a:chExt cx="7846200" cy="6003720"/>
          </a:xfrm>
        </p:grpSpPr>
        <p:sp>
          <p:nvSpPr>
            <p:cNvPr id="80" name="_s8197"/>
            <p:cNvSpPr/>
            <p:nvPr/>
          </p:nvSpPr>
          <p:spPr>
            <a:xfrm flipV="1">
              <a:off x="3366000" y="464400"/>
              <a:ext cx="2617920" cy="2008800"/>
            </a:xfrm>
            <a:custGeom>
              <a:avLst/>
              <a:gdLst>
                <a:gd name="textAreaLeft" fmla="*/ 939240 w 2617920"/>
                <a:gd name="textAreaRight" fmla="*/ 1678680 w 2617920"/>
                <a:gd name="textAreaTop" fmla="*/ 720720 h 2008800"/>
                <a:gd name="textAreaBottom" fmla="*/ 1288080 h 200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8d9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Inte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with oth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198"/>
            <p:cNvSpPr/>
            <p:nvPr/>
          </p:nvSpPr>
          <p:spPr>
            <a:xfrm flipV="1">
              <a:off x="2060280" y="2464920"/>
              <a:ext cx="5229360" cy="2001240"/>
            </a:xfrm>
            <a:custGeom>
              <a:avLst/>
              <a:gdLst>
                <a:gd name="textAreaLeft" fmla="*/ 1149840 w 5229360"/>
                <a:gd name="textAreaRight" fmla="*/ 4079520 w 5229360"/>
                <a:gd name="textAreaTop" fmla="*/ 439920 h 2001240"/>
                <a:gd name="textAreaBottom" fmla="*/ 156132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ef5c6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199"/>
            <p:cNvSpPr/>
            <p:nvPr/>
          </p:nvSpPr>
          <p:spPr>
            <a:xfrm flipV="1">
              <a:off x="752040" y="4466520"/>
              <a:ext cx="7846200" cy="2001240"/>
            </a:xfrm>
            <a:custGeom>
              <a:avLst/>
              <a:gdLst>
                <a:gd name="textAreaLeft" fmla="*/ 1362240 w 7846200"/>
                <a:gd name="textAreaRight" fmla="*/ 6483960 w 7846200"/>
                <a:gd name="textAreaTop" fmla="*/ 347400 h 2001240"/>
                <a:gd name="textAreaBottom" fmla="*/ 1653840 h 20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ef1b2"/>
            </a:solidFill>
            <a:ln w="4680">
              <a:solidFill>
                <a:srgbClr val="655f3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960" bIns="57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411280" y="2565360"/>
            <a:ext cx="4681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motional articulac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mpath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open-mindednes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active non-judgemental listening, conflict management ski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4724280"/>
            <a:ext cx="496872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utual respect, empowerment, collaboration, valuing others, integrity, honesty, openness, trust, toler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dealing with wrongdoing or conflict, is your response informed by relationship values and ski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nvite young people to give you, individually, their perspective on what has happe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you genuinely curious about their thoughts and feelings at the time of the incident and si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nvite them to consider who else may have been aff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invite them to consider what needs to happen to put matters r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ask them what their own personal needs are for closure and rep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21:51:07Z</dcterms:created>
  <dc:creator>NEC Computers International</dc:creator>
  <dc:description/>
  <dc:language>en-US</dc:language>
  <cp:lastModifiedBy>htrilling</cp:lastModifiedBy>
  <dcterms:modified xsi:type="dcterms:W3CDTF">2011-08-16T13:52:23Z</dcterms:modified>
  <cp:revision>3</cp:revision>
  <dc:subject/>
  <dc:title>Introduction to Restorative Approach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36366275</vt:r8>
  </property>
  <property fmtid="{D5CDD505-2E9C-101B-9397-08002B2CF9AE}" pid="3" name="_AuthorEmail">
    <vt:lpwstr>Ben.Robinson@leics.gov.uk</vt:lpwstr>
  </property>
  <property fmtid="{D5CDD505-2E9C-101B-9397-08002B2CF9AE}" pid="4" name="_AuthorEmailDisplayName">
    <vt:lpwstr>Ben J Robinson</vt:lpwstr>
  </property>
  <property fmtid="{D5CDD505-2E9C-101B-9397-08002B2CF9AE}" pid="5" name="_EmailSubject">
    <vt:lpwstr>Restorative Approaches Info</vt:lpwstr>
  </property>
  <property fmtid="{D5CDD505-2E9C-101B-9397-08002B2CF9AE}" pid="6" name="_ReviewingToolsShownOnce">
    <vt:lpwstr/>
  </property>
</Properties>
</file>